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7.wmf" ContentType="image/x-wmf"/>
  <Override PartName="/ppt/media/image12.wmf" ContentType="image/x-wmf"/>
  <Override PartName="/ppt/media/image8.wmf" ContentType="image/x-wmf"/>
  <Override PartName="/ppt/media/image9.png" ContentType="image/png"/>
  <Override PartName="/ppt/media/image10.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3528-C3B0-4E18-BE6E-950F0B011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DMS data includes the volatile portion of the PM-2.5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oncern here is that when the concentrations are at their highest we often see a higher proportion of volatile PM-2.5  that is not captured by the FRM  or by the TEOM which we use for public health repor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olatile PM most likely has health consequences  and the differences in the mass measurements as reported using these methods  may confound our efforts to select a appropriate pollution control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5D175-614A-402D-8F19-CF84A6763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8B573-1B04-4C2B-ADCB-2F979C559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25A88-A09E-4D43-AA96-2E99512FE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33788-95DB-47CF-8A60-A465BB854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979C4-0EFF-4AA2-8976-071FEF478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29514-1159-4D54-A603-8F5A9FB52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E221F-C8DC-4321-AE08-0E97EE1A9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70A3B-F066-48F5-AE0E-160CD854A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80149-491B-41EB-B728-15A39B12E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E7288-5CA7-4DA0-9CE3-CA0BD72B3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48BDE-8D4A-4C05-A9F5-5FE6D67CB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DD6A4-5E0B-4D62-BFE7-FC566FEE8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8EAE-8264-400A-8298-A8A088958F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9" name="" descr=""/>
          <p:cNvPicPr/>
          <p:nvPr/>
        </p:nvPicPr>
        <p:blipFill>
          <a:blip r:embed="rId1"/>
          <a:stretch/>
        </p:blipFill>
        <p:spPr>
          <a:xfrm>
            <a:off x="0" y="-92160"/>
            <a:ext cx="9296280" cy="6950160"/>
          </a:xfrm>
          <a:prstGeom prst="rect">
            <a:avLst/>
          </a:prstGeom>
          <a:ln w="0">
            <a:noFill/>
          </a:ln>
        </p:spPr>
      </p:pic>
      <p:sp>
        <p:nvSpPr>
          <p:cNvPr id="50" name=""/>
          <p:cNvSpPr/>
          <p:nvPr/>
        </p:nvSpPr>
        <p:spPr>
          <a:xfrm>
            <a:off x="1143000" y="4800600"/>
            <a:ext cx="2895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irk Felton                    RTP, NC                  February 12-13, 2008</a:t>
            </a:r>
            <a:r>
              <a:rPr b="0" lang="en-US"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51" name=""/>
          <p:cNvSpPr/>
          <p:nvPr/>
        </p:nvSpPr>
        <p:spPr>
          <a:xfrm>
            <a:off x="762120" y="1066680"/>
            <a:ext cx="7696080" cy="4435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Air Quality Data Summit:              Session: Inventory of Data System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Data provider perspectives</a:t>
            </a:r>
            <a:endParaRPr b="0" lang="en-US" sz="3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457200"/>
            <a:ext cx="792468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ata Providers Nee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ccurate: verified dataset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and Locals have to provide very accurate data for use in attainment designation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zone</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M-2.5 Annual and Daily (98%tile)</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M-10</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w Lead Standard? (Month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648320" y="1371600"/>
            <a:ext cx="3681360" cy="4343400"/>
          </a:xfrm>
          <a:prstGeom prst="rect">
            <a:avLst/>
          </a:prstGeom>
          <a:ln w="0">
            <a:noFill/>
          </a:ln>
        </p:spPr>
      </p:pic>
      <p:sp>
        <p:nvSpPr>
          <p:cNvPr id="68" name=""/>
          <p:cNvSpPr/>
          <p:nvPr/>
        </p:nvSpPr>
        <p:spPr>
          <a:xfrm>
            <a:off x="441360" y="527040"/>
            <a:ext cx="3749760" cy="424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hat Data Providers Need:</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ong term datasets</a:t>
            </a:r>
            <a:r>
              <a:rPr b="0" lang="en-US" sz="2400" spc="-1" strike="noStrike">
                <a:solidFill>
                  <a:srgbClr val="000000"/>
                </a:solidFill>
                <a:latin typeface="Times New Roman"/>
              </a:rPr>
              <a:t> utilizing consistent methods and location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lth Studie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P/Trend Analysis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e monitoring</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191120" y="2666880"/>
            <a:ext cx="4698720" cy="3530880"/>
          </a:xfrm>
          <a:prstGeom prst="rect">
            <a:avLst/>
          </a:prstGeom>
          <a:ln w="0">
            <a:noFill/>
          </a:ln>
        </p:spPr>
      </p:pic>
      <p:pic>
        <p:nvPicPr>
          <p:cNvPr id="70" name="" descr=""/>
          <p:cNvPicPr/>
          <p:nvPr/>
        </p:nvPicPr>
        <p:blipFill>
          <a:blip r:embed="rId2"/>
          <a:stretch/>
        </p:blipFill>
        <p:spPr>
          <a:xfrm>
            <a:off x="4191120" y="380880"/>
            <a:ext cx="4724280" cy="2222640"/>
          </a:xfrm>
          <a:prstGeom prst="rect">
            <a:avLst/>
          </a:prstGeom>
          <a:ln w="0">
            <a:noFill/>
          </a:ln>
        </p:spPr>
      </p:pic>
      <p:sp>
        <p:nvSpPr>
          <p:cNvPr id="71" name=""/>
          <p:cNvSpPr/>
          <p:nvPr/>
        </p:nvSpPr>
        <p:spPr>
          <a:xfrm>
            <a:off x="289080" y="515880"/>
            <a:ext cx="3825720" cy="500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What Data Providers Need:</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al-Time Public Access</a:t>
            </a:r>
            <a:r>
              <a:rPr b="0" lang="en-US" sz="2400" spc="-1" strike="noStrike">
                <a:solidFill>
                  <a:srgbClr val="000000"/>
                </a:solidFill>
                <a:latin typeface="Times New Roman"/>
              </a:rPr>
              <a:t>: The public, the press and Government officials demand information. This data does not have to be verified.</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past data turnaround was so slow, monitoring Agencies were not even asked unless the inquiry was retrospec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523880" y="1395360"/>
          <a:ext cx="6097680" cy="4068720"/>
        </p:xfrm>
        <a:graphic>
          <a:graphicData uri="http://schemas.openxmlformats.org/presentationml/2006/ole">
            <p:oleObj r:id="rId1" spid="">
              <p:embed/>
              <p:pic>
                <p:nvPicPr>
                  <p:cNvPr id="73" name="" descr=""/>
                  <p:cNvPicPr/>
                  <p:nvPr/>
                </p:nvPicPr>
                <p:blipFill>
                  <a:blip r:embed="rId2"/>
                  <a:stretch/>
                </p:blipFill>
                <p:spPr>
                  <a:xfrm>
                    <a:off x="1523880" y="1395360"/>
                    <a:ext cx="6097680" cy="4068720"/>
                  </a:xfrm>
                  <a:prstGeom prst="rect">
                    <a:avLst/>
                  </a:prstGeom>
                  <a:ln w="0">
                    <a:noFill/>
                  </a:ln>
                </p:spPr>
              </p:pic>
            </p:oleObj>
          </a:graphicData>
        </a:graphic>
      </p:graphicFrame>
      <p:pic>
        <p:nvPicPr>
          <p:cNvPr id="74" name="" descr=""/>
          <p:cNvPicPr/>
          <p:nvPr/>
        </p:nvPicPr>
        <p:blipFill>
          <a:blip r:embed="rId3"/>
          <a:stretch/>
        </p:blipFill>
        <p:spPr>
          <a:xfrm>
            <a:off x="609480" y="1143000"/>
            <a:ext cx="7944120" cy="4867200"/>
          </a:xfrm>
          <a:prstGeom prst="rect">
            <a:avLst/>
          </a:prstGeom>
          <a:ln w="0">
            <a:noFill/>
          </a:ln>
        </p:spPr>
      </p:pic>
      <p:sp>
        <p:nvSpPr>
          <p:cNvPr id="75" name=""/>
          <p:cNvSpPr/>
          <p:nvPr/>
        </p:nvSpPr>
        <p:spPr>
          <a:xfrm>
            <a:off x="676080" y="6095880"/>
            <a:ext cx="529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N Mass is not the same as mass from the FRM </a:t>
            </a:r>
            <a:endParaRPr b="0" lang="en-US" sz="2000" spc="-1" strike="noStrike">
              <a:solidFill>
                <a:srgbClr val="000000"/>
              </a:solidFill>
              <a:latin typeface="Times New Roman"/>
            </a:endParaRPr>
          </a:p>
        </p:txBody>
      </p:sp>
      <p:sp>
        <p:nvSpPr>
          <p:cNvPr id="76" name=""/>
          <p:cNvSpPr/>
          <p:nvPr/>
        </p:nvSpPr>
        <p:spPr>
          <a:xfrm>
            <a:off x="380880" y="222120"/>
            <a:ext cx="83822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4- What Data Providers Need</a:t>
            </a:r>
            <a:r>
              <a:rPr b="0" lang="en-US" sz="2000" spc="-1" strike="noStrike">
                <a:solidFill>
                  <a:srgbClr val="000000"/>
                </a:solidFill>
                <a:latin typeface="Times New Roman"/>
              </a:rPr>
              <a:t>:  A method to explain data inconsistencies that do not make the Public distrust the provid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914400" y="1371600"/>
            <a:ext cx="7467480" cy="5235480"/>
          </a:xfrm>
          <a:prstGeom prst="rect">
            <a:avLst/>
          </a:prstGeom>
          <a:ln w="0">
            <a:noFill/>
          </a:ln>
        </p:spPr>
      </p:pic>
      <p:sp>
        <p:nvSpPr>
          <p:cNvPr id="78" name=""/>
          <p:cNvSpPr/>
          <p:nvPr/>
        </p:nvSpPr>
        <p:spPr>
          <a:xfrm>
            <a:off x="6934320" y="1219320"/>
            <a:ext cx="1218960" cy="28954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a:off x="6400800" y="1295280"/>
            <a:ext cx="914400" cy="205740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 name=""/>
          <p:cNvSpPr/>
          <p:nvPr/>
        </p:nvSpPr>
        <p:spPr>
          <a:xfrm>
            <a:off x="533520" y="304920"/>
            <a:ext cx="8153280" cy="99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harder to explain when it effects individual components preferentially: The lower flow rate of the SuperSass sampler makes it more efficient for the </a:t>
            </a:r>
            <a:r>
              <a:rPr b="0" lang="en-US" sz="2000" spc="-1" strike="noStrike">
                <a:solidFill>
                  <a:srgbClr val="000000"/>
                </a:solidFill>
                <a:latin typeface="Times New Roman"/>
              </a:rPr>
              <a:t>	</a:t>
            </a:r>
            <a:r>
              <a:rPr b="0" lang="en-US" sz="2000" spc="-1" strike="noStrike">
                <a:solidFill>
                  <a:srgbClr val="000000"/>
                </a:solidFill>
                <a:latin typeface="Times New Roman"/>
              </a:rPr>
              <a:t>collection of volatile spe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09480" y="1523880"/>
            <a:ext cx="7981920" cy="4496040"/>
          </a:xfrm>
          <a:prstGeom prst="rect">
            <a:avLst/>
          </a:prstGeom>
          <a:ln w="0">
            <a:noFill/>
          </a:ln>
        </p:spPr>
      </p:pic>
      <p:sp>
        <p:nvSpPr>
          <p:cNvPr id="82" name=""/>
          <p:cNvSpPr/>
          <p:nvPr/>
        </p:nvSpPr>
        <p:spPr>
          <a:xfrm>
            <a:off x="609480" y="457200"/>
            <a:ext cx="7940880" cy="110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DMS data indicates that the FRM and the 50 Deg C TEOM did not capture a substantial fraction of PM-2.5 during this pollution episod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93640" y="171360"/>
            <a:ext cx="839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5- What Data Providers Need</a:t>
            </a:r>
            <a:r>
              <a:rPr b="0" lang="en-US" sz="2000" spc="-1" strike="noStrike">
                <a:solidFill>
                  <a:srgbClr val="000000"/>
                </a:solidFill>
                <a:latin typeface="Times New Roman"/>
              </a:rPr>
              <a:t>:</a:t>
            </a:r>
            <a:r>
              <a:rPr b="0" lang="en-US" sz="3200" spc="-1" strike="noStrike">
                <a:solidFill>
                  <a:srgbClr val="000000"/>
                </a:solidFill>
                <a:latin typeface="Times New Roman"/>
              </a:rPr>
              <a:t> </a:t>
            </a:r>
            <a:r>
              <a:rPr b="0" lang="en-US" sz="2000" spc="-1" strike="noStrike">
                <a:solidFill>
                  <a:srgbClr val="000000"/>
                </a:solidFill>
                <a:latin typeface="Times New Roman"/>
              </a:rPr>
              <a:t>An easier method to communicate dataset issues that compromise data quality: Sodium Filter Contamin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more than 2 Yrs of complaining the Sodium Data was Flagged in AQS)</a:t>
            </a:r>
            <a:endParaRPr b="0" lang="en-US" sz="2000" spc="-1" strike="noStrike">
              <a:solidFill>
                <a:srgbClr val="000000"/>
              </a:solidFill>
              <a:latin typeface="Times New Roman"/>
            </a:endParaRPr>
          </a:p>
        </p:txBody>
      </p:sp>
      <p:pic>
        <p:nvPicPr>
          <p:cNvPr id="84" name="" descr=""/>
          <p:cNvPicPr/>
          <p:nvPr/>
        </p:nvPicPr>
        <p:blipFill>
          <a:blip r:embed="rId1"/>
          <a:stretch/>
        </p:blipFill>
        <p:spPr>
          <a:xfrm>
            <a:off x="533520" y="1523880"/>
            <a:ext cx="8243640" cy="4670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380880"/>
            <a:ext cx="855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ata is compromised but it has not been flagged because the Lab Denies that Ammonium concentrations were effected by Na contamination (This data is still in AQS)</a:t>
            </a:r>
            <a:endParaRPr b="0" lang="en-US" sz="1800" spc="-1" strike="noStrike">
              <a:solidFill>
                <a:srgbClr val="000000"/>
              </a:solidFill>
              <a:latin typeface="Times New Roman"/>
            </a:endParaRPr>
          </a:p>
        </p:txBody>
      </p:sp>
      <p:pic>
        <p:nvPicPr>
          <p:cNvPr id="86" name="" descr=""/>
          <p:cNvPicPr/>
          <p:nvPr/>
        </p:nvPicPr>
        <p:blipFill>
          <a:blip r:embed="rId1"/>
          <a:stretch/>
        </p:blipFill>
        <p:spPr>
          <a:xfrm>
            <a:off x="533520" y="1447920"/>
            <a:ext cx="8086680" cy="457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41360" y="406440"/>
            <a:ext cx="8321760" cy="5537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Needs of Data Provider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accurate, validated data (including from other States)</a:t>
            </a:r>
            <a:endParaRPr b="0" lang="en-US" sz="24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long data records (20+ years)</a:t>
            </a:r>
            <a:endParaRPr b="0" lang="en-US" sz="24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for the Public for near real-time reports and warnings</a:t>
            </a:r>
            <a:endParaRPr b="0" lang="en-US" sz="24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input of short term special purpose, special study data</a:t>
            </a:r>
            <a:endParaRPr b="0" lang="en-US" sz="24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to communicate meta data and nuances to users: flags, inconsistent methods, different sampler type, different lab analyses, errors</a:t>
            </a:r>
            <a:endParaRPr b="0" lang="en-US" sz="24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to communicate changes or updates to data sets.  NY is currently changing 2006 FRM data to fix error in null reporting</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3428640" y="152280"/>
            <a:ext cx="198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d of</a:t>
            </a:r>
            <a:r>
              <a:rPr b="0" lang="en-US" sz="1800" spc="-1" strike="noStrike">
                <a:solidFill>
                  <a:srgbClr val="000000"/>
                </a:solidFill>
                <a:latin typeface="Times New Roman"/>
              </a:rPr>
              <a:t> </a:t>
            </a:r>
            <a:r>
              <a:rPr b="0" lang="en-US" sz="1800" spc="-1" strike="noStrike">
                <a:solidFill>
                  <a:srgbClr val="ffffff"/>
                </a:solidFill>
                <a:latin typeface="Times New Roman"/>
              </a:rPr>
              <a:t>Presen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6840" y="533520"/>
            <a:ext cx="8001000" cy="57909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Y State Dept of Environmental Conservation Submits</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Quality data to the following Databas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AQS: </a:t>
            </a:r>
            <a:r>
              <a:rPr b="0" lang="en-US" sz="2000" spc="-1" strike="noStrike">
                <a:solidFill>
                  <a:srgbClr val="000000"/>
                </a:solidFill>
                <a:latin typeface="Times New Roman"/>
              </a:rPr>
              <a:t>	</a:t>
            </a:r>
            <a:r>
              <a:rPr b="0" lang="en-US" sz="2000" spc="-1" strike="noStrike">
                <a:solidFill>
                  <a:srgbClr val="000000"/>
                </a:solidFill>
                <a:latin typeface="Times New Roman"/>
              </a:rPr>
              <a:t>Nearly 80 sites, hundreds of parameters, since the 1970’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Submit, Valid, Certified, Flagged or nul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irNow: </a:t>
            </a:r>
            <a:r>
              <a:rPr b="0" lang="en-US" sz="2000" spc="-1" strike="noStrike">
                <a:solidFill>
                  <a:srgbClr val="000000"/>
                </a:solidFill>
                <a:latin typeface="Times New Roman"/>
              </a:rPr>
              <a:t>	</a:t>
            </a:r>
            <a:r>
              <a:rPr b="0" lang="en-US" sz="2000" spc="-1" strike="noStrike">
                <a:solidFill>
                  <a:srgbClr val="000000"/>
                </a:solidFill>
                <a:latin typeface="Times New Roman"/>
              </a:rPr>
              <a:t>selected Ozone, PM-2.5 and PM-10</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Submit selected un-validated, modified data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Y’s Network is too dense in urban area: NYC)</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WS: </a:t>
            </a:r>
            <a:r>
              <a:rPr b="0" lang="en-US" sz="2000" spc="-1" strike="noStrike">
                <a:solidFill>
                  <a:srgbClr val="000000"/>
                </a:solidFill>
                <a:latin typeface="Times New Roman"/>
              </a:rPr>
              <a:t>	</a:t>
            </a:r>
            <a:r>
              <a:rPr b="0" lang="en-US" sz="2000" spc="-1" strike="noStrike">
                <a:solidFill>
                  <a:srgbClr val="000000"/>
                </a:solidFill>
                <a:latin typeface="Times New Roman"/>
              </a:rPr>
              <a:t>2 urban IMPROVE sit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IMPROVE submits and validat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DP/MDN: 2 urban wet deposition and Continuous Hg sit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NADP submits and validat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RSTO: </a:t>
            </a:r>
            <a:r>
              <a:rPr b="0" lang="en-US" sz="2000" spc="-1" strike="noStrike">
                <a:solidFill>
                  <a:srgbClr val="000000"/>
                </a:solidFill>
                <a:latin typeface="Times New Roman"/>
              </a:rPr>
              <a:t>	</a:t>
            </a:r>
            <a:r>
              <a:rPr b="0" lang="en-US" sz="2000" spc="-1" strike="noStrike">
                <a:solidFill>
                  <a:srgbClr val="000000"/>
                </a:solidFill>
                <a:latin typeface="Times New Roman"/>
              </a:rPr>
              <a:t>5 Yr collaboration with NY Supersit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PI/NYSDEC submit Valid and Flagged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380880"/>
            <a:ext cx="7924680" cy="586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QS:</a:t>
            </a:r>
            <a:endParaRPr b="0" lang="en-US" sz="3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Issues: Difficult format, parameter and method codes limit detail, not suitable for short term studies, no ability to calculate: flows (std vs vol)</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ieval issues: Flags not included automatically (should be), Public, EPA Regional offices and many consultants have difficulty finding data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 data issues: site data not updated, system does not accept accessory and diagnostic data, scale data not by parameter or complete, no analysis detail or history of change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ction/certification issues: Should have a method to inform users of changes to datasets or at least institute a version or customer tracking system. Data certification not necessarily meaningful, Blanks not incl.</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ustration: downloaded data by parameter creates data sets that are not internally compatible (FRM, TEOM, STN mass), 120 days not long enough for data requiring lab analysis, FEMs not always eq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914400" y="1066680"/>
            <a:ext cx="6904080" cy="5234040"/>
          </a:xfrm>
          <a:prstGeom prst="rect">
            <a:avLst/>
          </a:prstGeom>
          <a:ln w="0">
            <a:noFill/>
          </a:ln>
        </p:spPr>
      </p:pic>
      <p:sp>
        <p:nvSpPr>
          <p:cNvPr id="55" name=""/>
          <p:cNvSpPr/>
          <p:nvPr/>
        </p:nvSpPr>
        <p:spPr>
          <a:xfrm>
            <a:off x="-43920" y="304920"/>
            <a:ext cx="83527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QS Frustration Continued: (This is what normally happens)</a:t>
            </a:r>
            <a:endParaRPr b="0" lang="en-US" sz="2400" spc="-1" strike="noStrike">
              <a:solidFill>
                <a:srgbClr val="000000"/>
              </a:solidFill>
              <a:latin typeface="Times New Roman"/>
            </a:endParaRPr>
          </a:p>
        </p:txBody>
      </p:sp>
      <p:sp>
        <p:nvSpPr>
          <p:cNvPr id="56" name=""/>
          <p:cNvSpPr/>
          <p:nvPr/>
        </p:nvSpPr>
        <p:spPr>
          <a:xfrm flipH="1">
            <a:off x="1599840" y="2895480"/>
            <a:ext cx="6172200" cy="68580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828800" y="4191120"/>
            <a:ext cx="5943600" cy="5331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3040" y="2819520"/>
            <a:ext cx="1654920" cy="644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a:t>
            </a:r>
            <a:endParaRPr b="0" lang="en-US" sz="1800" spc="-1" strike="noStrike">
              <a:solidFill>
                <a:srgbClr val="000000"/>
              </a:solidFill>
              <a:latin typeface="Times New Roman"/>
            </a:endParaRPr>
          </a:p>
        </p:txBody>
      </p:sp>
      <p:sp>
        <p:nvSpPr>
          <p:cNvPr id="59" name=""/>
          <p:cNvSpPr/>
          <p:nvPr/>
        </p:nvSpPr>
        <p:spPr>
          <a:xfrm>
            <a:off x="7354440" y="3352680"/>
            <a:ext cx="1947240" cy="644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amp;</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lta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520" y="533520"/>
            <a:ext cx="8229600" cy="5867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Now:</a:t>
            </a:r>
            <a:endParaRPr b="0" lang="en-US" sz="28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Issues: “FRM-like” data not consistently modified. (Should there be a test?)  Need hourly connectivity to monitoring site, Some older data systems limited to Ozone and PM-2.5.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ieval issues: Limited, Access to un-validated data should be limite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 data issues: Access to FRM like adjustments is provided but is rarely used by data users. (may be password protecte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ction/certification issues: Some “error catching” can be implemented by provider but this is difficult in a live system.  Buddy system checking should be provided by database.  Data not likely to match AQS dat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ustration: Invalid data gets out to the public more often than we would like.  Max data thresholds can limit bad data but in extreme conditions (fires) can also limit good data when the public really needs i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09480" y="609480"/>
            <a:ext cx="7940880" cy="45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W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Issues: Data input by administrator not data provider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ieval issues: Very long delay before data is available, Data sometimes partially available or in draft before it is finalized</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 data issues: Helpful documents provided but cannot be uploaded by data provider. QA data and QA program not suffici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ction/certification issues: No data provider inpu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ustration: Data delays of more than 1 year are comm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609480"/>
            <a:ext cx="7712280" cy="404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DP/MDN</a:t>
            </a:r>
            <a:endParaRPr b="0" lang="en-US" sz="3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Issues: Data input by administrator not provider.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ieval issues: Limited to public, More availability to providers.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 data issues:  Limited but not usually a problem for a consistent network.</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ction/certification issues:  Tekran data will be a challeng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ustration:  We’ll see,  The Mercury program is still being design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609480"/>
            <a:ext cx="7772400" cy="404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STO</a:t>
            </a:r>
            <a:endParaRPr b="0" lang="en-US" sz="3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Issues: File format is archaic, cumbersome and does not provide enough options.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ieval issues: ?? I don’t know how.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 data issues:  Some information is included in the input file forma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ction/certification issues: Utilizes Data QC flags (0,1,2)</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ustration: Seems like a black ho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533520"/>
            <a:ext cx="4994280" cy="5995800"/>
          </a:xfrm>
          <a:prstGeom prst="rect">
            <a:avLst/>
          </a:prstGeom>
          <a:ln w="0">
            <a:noFill/>
          </a:ln>
        </p:spPr>
      </p:pic>
      <p:sp>
        <p:nvSpPr>
          <p:cNvPr id="65" name=""/>
          <p:cNvSpPr/>
          <p:nvPr/>
        </p:nvSpPr>
        <p:spPr>
          <a:xfrm>
            <a:off x="441360" y="723960"/>
            <a:ext cx="2835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RSTO: Format for a single data en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17:30:05Z</dcterms:created>
  <dc:creator>Dirk Felton</dc:creator>
  <dc:description/>
  <dc:language>en-US</dc:language>
  <cp:lastModifiedBy>Dirk Felton</cp:lastModifiedBy>
  <dcterms:modified xsi:type="dcterms:W3CDTF">2008-02-12T12:56:45Z</dcterms:modified>
  <cp:revision>168</cp:revision>
  <dc:subject/>
  <dc:title>PowerPoint Presentation</dc:title>
</cp:coreProperties>
</file>